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614-3DDE-4AC2-B078-1D3EFDCC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DE4-141A-4BA7-B501-46A5FDC2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373-F7DA-4043-8F43-70357E66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CA0-DDA0-401B-9EEA-2486F60F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AB04-4374-44C6-84ED-28B2E200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AF1C-99DA-4A7B-B734-C94C5B85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7723-8587-4C85-BB14-04C4267C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124D-A791-471B-9BA4-B57C9E38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E727-0410-4A04-A4B5-3EB800D9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13F6-8404-4CF1-B2C0-5B8D3389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8503-96F9-4DDB-9BA4-7AD9165E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44E-3B6F-48A8-BA88-0215EBE8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1FAE-14E5-46AD-8C23-AC90F062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C73A-42D0-4C3A-BBD4-A2D571DC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882B-5727-45F6-905A-C526A404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7E58-2CD3-4610-BE28-37DA3596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2EA0-EDB1-4BAD-B944-A44698C4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2C2-C566-4E20-BB0B-D9CC011F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637-F0AF-4E17-AE30-9D776CAF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B60-53E5-4CFA-B996-5A63E4F0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E7C-A6E4-4E00-9601-714B64FB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AB7-10CE-467B-901E-8932D47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0FE-26C8-4763-8353-FA75BAE4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927-1842-47A2-A61A-3EF98302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9205-0C17-477A-B674-02B28105500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C2A7-E576-4E9D-90D3-7D9211B8A1A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Ana Selby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24040" cy="1305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981080" y="380880"/>
            <a:ext cx="6782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t a problem, situation, question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9996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61760" y="1341000"/>
            <a:ext cx="7786440" cy="4648680"/>
            <a:chOff x="761760" y="1341000"/>
            <a:chExt cx="7786440" cy="4648680"/>
          </a:xfrm>
        </p:grpSpPr>
        <p:sp>
          <p:nvSpPr>
            <p:cNvPr id="217" name=""/>
            <p:cNvSpPr/>
            <p:nvPr/>
          </p:nvSpPr>
          <p:spPr>
            <a:xfrm>
              <a:off x="3809880" y="1417320"/>
              <a:ext cx="1714680" cy="1218960"/>
            </a:xfrm>
            <a:custGeom>
              <a:avLst/>
              <a:gdLst>
                <a:gd name="textAreaLeft" fmla="*/ 0 w 1714680"/>
                <a:gd name="textAreaRight" fmla="*/ 1715040 w 17146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4350600">
              <a:off x="6972480" y="3284280"/>
              <a:ext cx="1752480" cy="9144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0800000">
              <a:off x="3581280" y="4617720"/>
              <a:ext cx="1752480" cy="120492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411480" y="3062880"/>
              <a:ext cx="1905120" cy="12049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99840" y="1417320"/>
              <a:ext cx="2057400" cy="148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OBSERVATIONS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cribe </a:t>
              </a: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objectivel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verything you see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What, when, how, who?)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43600" y="1341000"/>
              <a:ext cx="1981080" cy="148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HYPOTHESIS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ive an educated explanation of the phenomenon (facts)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Why?)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15000" y="4618080"/>
              <a:ext cx="22860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EXPERIMENTATION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f possible, test your hypothesis and, 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rd your 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RESULTS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90360" y="4694040"/>
              <a:ext cx="213372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CONCLUSION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as your hypothesis right? If not, what was wrong?  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24080" y="3093840"/>
              <a:ext cx="32004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HOW TO…</a:t>
              </a: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22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USE</a:t>
              </a: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THE SCIENTIFIC METHOD</a:t>
              </a: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99960" y="7227720"/>
            <a:ext cx="301788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040" y="6171480"/>
            <a:ext cx="305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Times New Roman"/>
              </a:rPr>
              <a:t>[i] Created by  Ana Selby, How to…Science Clinics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4:24:48Z</dcterms:created>
  <dc:creator> </dc:creator>
  <dc:description/>
  <dc:language>en-US</dc:language>
  <cp:lastModifiedBy> </cp:lastModifiedBy>
  <dcterms:modified xsi:type="dcterms:W3CDTF">2008-08-04T14:34:51Z</dcterms:modified>
  <cp:revision>1</cp:revision>
  <dc:subject/>
  <dc:title>Diapositiva 1</dc:title>
</cp:coreProperties>
</file>